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75922"/>
        <c:axId val="31056335"/>
      </c:barChart>
      <c:catAx>
        <c:axId val="53975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56335"/>
        <c:crosses val="autoZero"/>
        <c:auto val="1"/>
        <c:lblAlgn val="ctr"/>
        <c:lblOffset val="100"/>
        <c:noMultiLvlLbl val="0"/>
      </c:catAx>
      <c:valAx>
        <c:axId val="31056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5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BC7-0017-42C6-B917-D4D755FD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93E-94F4-4D84-901D-8C4BC652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091-4956-4021-A0B8-F6862CB0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451-155C-4403-9D28-D19C0BFD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338-DDEA-4A3C-ABC2-0B3BD1B7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056-DEF1-41AA-8161-CD6A86B9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DD6-5E7B-475C-9A48-630B7E6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D91-C3EF-4596-B964-E89644A8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F7E-52FF-46EB-A88E-AB01C61D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BDE-5B6C-46FC-83D3-CA96841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97C-E9C5-49B3-831A-4BF553BF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E4A-22D3-430E-B206-14B7E83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257F1-393A-4AEC-9C59-9D6D381FD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