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452189"/>
        <c:axId val="91986108"/>
      </c:barChart>
      <c:catAx>
        <c:axId val="104521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86108"/>
        <c:crosses val="autoZero"/>
        <c:auto val="1"/>
        <c:lblAlgn val="ctr"/>
        <c:lblOffset val="100"/>
        <c:noMultiLvlLbl val="0"/>
      </c:catAx>
      <c:valAx>
        <c:axId val="919861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521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D7A8-F884-46FB-96E2-74FA1E87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0A90-8FC4-44DE-9DFA-17F01D91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0788-1982-4BEC-B207-685D6BCA0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558A-AC68-4AD1-AD88-D45C016C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FAC-8AF9-4D94-A909-D8B032F4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4F1E-0EDB-4B8D-BAB9-ACEE2BFE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0F8C-4307-4D6A-86E2-5C05792F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3E2E-080F-4B58-B197-DDAF3F82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730D-7813-435C-9AE1-BCE89D7D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D1A4-003D-4AC6-9713-B61E43AC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8CA4-EA93-4B8C-8A2C-869DDC68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929-145D-499A-BBE1-A0D8B690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C12EB-867E-4BF3-BB9A-34FAC8A396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