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593981"/>
        <c:axId val="49068445"/>
      </c:barChart>
      <c:catAx>
        <c:axId val="855939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68445"/>
        <c:crosses val="autoZero"/>
        <c:auto val="1"/>
        <c:lblAlgn val="ctr"/>
        <c:lblOffset val="100"/>
        <c:noMultiLvlLbl val="0"/>
      </c:catAx>
      <c:valAx>
        <c:axId val="490684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939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C115-C39D-4CD8-B6B5-40A24D7A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29E-FA24-4AFA-82B6-4E9AAA5F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6D1-7432-484B-9FA8-2110A03A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53A1-8D4C-466B-97B3-DF6913B5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6E3F-1385-4C03-80BB-5A0D7616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D011-0BD2-4DC7-A200-C9C44A11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271-132D-4058-8404-BEA4DF0F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5ED4-6716-4B81-B6B4-5A2892B2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9BA-EF3C-467B-81FF-4EC8B547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352B-871A-4A8E-ACA0-F4EFC910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E435-79CD-4480-A6DF-DCDEF643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E9E8-EA5C-4467-A753-9F12A4E5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E084B-BE3B-4F0F-8285-04B28054C5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