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735276"/>
        <c:axId val="56984356"/>
      </c:barChart>
      <c:catAx>
        <c:axId val="947352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84356"/>
        <c:crosses val="autoZero"/>
        <c:auto val="1"/>
        <c:lblAlgn val="ctr"/>
        <c:lblOffset val="100"/>
        <c:noMultiLvlLbl val="0"/>
      </c:catAx>
      <c:valAx>
        <c:axId val="569843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352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AF70-77FA-4F81-AC85-C0D44646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229B-0255-4569-B948-49C5800D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4966-10ED-4329-BC79-BEF3E8E2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F92E-B2CA-412F-961D-281D4A6F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787E-B4BC-432A-8F72-756466D2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66EF-5D11-4233-8980-7839ADC7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26D2-987B-49BA-8127-383A6CEB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9018-AC66-4709-BB09-689FF146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8C3-ED4C-45B4-BE11-F8DCA423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2A2F-6164-4477-B867-5854E18C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D33-B41B-4E80-9F77-394759F7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5F82-2AB6-4342-BF08-C15DCBF1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2B73F-0DC3-46A7-B577-E02597EF8B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