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76315"/>
        <c:axId val="21327633"/>
      </c:barChart>
      <c:catAx>
        <c:axId val="49876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27633"/>
        <c:crosses val="autoZero"/>
        <c:auto val="1"/>
        <c:lblAlgn val="ctr"/>
        <c:lblOffset val="100"/>
        <c:noMultiLvlLbl val="0"/>
      </c:catAx>
      <c:valAx>
        <c:axId val="21327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76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3DE-ACFF-47BE-B614-4A4F940C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0C9-F645-40C4-BF1F-0347458D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FFA-08BD-45BA-8F56-8AACA1C2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A741-F48F-4F64-9F91-0FC3880F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1C4B-EE29-44A8-8D1F-FFB6BAB1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0C76-7D44-4EE2-84C6-6B2BBAE7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6A7-C1F8-43EB-A81C-C38DE8D5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DF5-F69E-43FF-95F1-9104D3C7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C2E-658D-4764-A446-2FF5CE2C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92C6-3B24-4F20-AA5E-AA6C8046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8DC-C0FF-42C9-815E-CE5E638F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84F8-DE61-4F04-8463-E4EE7198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1CCB4-11B1-4065-82BC-50FB175D58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