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11777"/>
        <c:axId val="41991154"/>
      </c:barChart>
      <c:catAx>
        <c:axId val="80211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91154"/>
        <c:crosses val="autoZero"/>
        <c:auto val="1"/>
        <c:lblAlgn val="ctr"/>
        <c:lblOffset val="100"/>
        <c:noMultiLvlLbl val="0"/>
      </c:catAx>
      <c:valAx>
        <c:axId val="41991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11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CF9-B2DC-4C4A-A941-882BD76F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A86-24C9-4C70-B89B-C24D95F7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E8A-CBD7-4F05-993A-916EA647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470-DA92-4A35-854F-34568367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EC3-7BBC-4EC1-B21C-D8428642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4DA-FC10-48DC-9AE0-AF99BA2B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6A3-6559-49E2-8C59-B47B17FA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E57-5DD8-4163-81D1-11DFC7FC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340-CBFD-46FD-B7C5-AE3FE1D1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6EE-7188-4139-AD69-0E4B859E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172-02AD-47EF-A19F-C9CFCCA8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B18-5437-456A-B015-5E1F4939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7BAD5-5560-40B2-962B-33854D486C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