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18699"/>
        <c:axId val="86361715"/>
      </c:barChart>
      <c:catAx>
        <c:axId val="27218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61715"/>
        <c:crosses val="autoZero"/>
        <c:auto val="1"/>
        <c:lblAlgn val="ctr"/>
        <c:lblOffset val="100"/>
        <c:noMultiLvlLbl val="0"/>
      </c:catAx>
      <c:valAx>
        <c:axId val="863617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18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F16-F00E-4232-80EF-7D89A783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40A-A324-4DF6-B980-E4461F5C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22D9-41B2-4163-88E0-65474F07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6C0-1AC3-4E71-B520-6D3599E8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54E-50F3-485F-9E99-2653EE49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F3B-759D-4021-8A01-D2C230F0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07A-BADE-417C-9B9D-74BB6FDB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3528-FEA6-4891-A4A8-834950EA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178-F153-4689-A8DB-D6B1D3E8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4AC-E2AD-4FFC-BE7D-7E642E83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357-C9E0-4F9B-903A-7CB2F139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FDD-B9CF-423A-9B0C-3ACFFD39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3BC00-F7C4-4E32-8BD8-24EB1278B1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